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jpeg" ContentType="image/jpeg"/>
  <Override PartName="/ppt/media/image27.wmf" ContentType="image/x-wmf"/>
  <Override PartName="/ppt/media/image23.png" ContentType="image/png"/>
  <Override PartName="/ppt/media/image21.jpeg" ContentType="image/jpeg"/>
  <Override PartName="/ppt/media/image28.jpeg" ContentType="image/jpeg"/>
  <Override PartName="/ppt/media/image7.jpeg" ContentType="image/jpeg"/>
  <Override PartName="/ppt/media/image31.jpeg" ContentType="image/jpeg"/>
  <Override PartName="/ppt/media/image10.wmf" ContentType="image/x-wmf"/>
  <Override PartName="/ppt/media/image25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2.png" ContentType="image/png"/>
  <Override PartName="/ppt/media/image30.wmf" ContentType="image/x-wmf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8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19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20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5305-FDB0-44A0-8C5A-F24FEE4C2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4FE1-719F-4F45-AF29-957D1B7A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D267-5971-44D9-9BA9-3968E8CA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35F5-F0B9-4B8D-A6D0-D84941B0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189F-D2DA-417B-8439-05BA5133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4350-D5C4-4F9D-B4CA-58ECA89F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9DB8-A30A-4C40-BD68-CAD525D4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A7A1-5BF9-42F9-BEDA-DC46CB82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7C2F-7377-4F13-9466-1DDB94B3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608B-1A92-4F5A-998B-E0FB339F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0F10-1DE5-4992-854D-2B16E368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3C55-08F2-4E0F-AFA0-ADB010E4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EA62-3466-4B71-B29D-EA9F891C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C0A9-96F2-41DA-A87E-793BDB55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30E0-2206-4792-B924-C22EBBF2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BDC3-2E91-4B0C-BC40-55C54060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F2CF-1044-41BC-9B69-B6AA5B00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0819-497C-4F67-A1AD-1D053094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16849-B934-4ED6-A85B-CA7C0AE4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2C20F-F9BA-40C2-985A-FC649D66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417F4-299E-46B2-A059-05428602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D781E-C412-4C63-AA91-83A344B3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316CF-7C53-4F09-B335-77E657EC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2BFB-8861-482A-8E14-6F81D9FF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866B4-E937-491B-A287-341EC7B0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556F3-1DEC-47EF-97AA-8A5E8AAD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79756-87B2-41BF-843B-856B202E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4722C-4E03-48B0-971C-4979C86A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0ED33-B17F-4146-BF1B-273416B1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6925C-8D5A-4C6A-8248-0CEF7F4D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42BCA-807E-4EF3-8191-0BB1A066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4373-43F2-42E1-8F1B-94D07943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A1A0EB-A298-4559-A6C7-408BD05F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FE7E-E4CB-4FDA-87AE-D9878CAC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7887E2-120B-47CD-AC75-E337FE28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E75057-6DCD-484D-99E3-1953DB2C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14A0CF-D318-4116-B061-39FE6CC5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618893-5792-40BC-B89A-00E1A513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305CFD-CA2E-46C0-A3A3-E3C4CA31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820D87-EA8A-4D8B-AD9A-BB66285D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8C06BC-E8B5-4378-A392-8AEAA7E9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2A35E9-63E1-4E2A-8DD6-3CBFE73B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42A9A5-DBA8-4224-BDEC-070EEBD9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29F651-7E09-4016-B628-4C00AF74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E2A-21FB-4662-90E1-F00B4371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1EE22D-74B8-4553-A1FB-F7786248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51E0B6-A5C7-4C1C-8FEC-BF44CA26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11A3EC-02EE-4E30-985B-F922F381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720334-F0F7-4143-932E-A35A22EA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14F8E7-70AC-401B-A770-A8EDD263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78F585-4D65-4871-ADF3-B52B191B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DB882C-2A6A-49EA-B7B2-B6A768AB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FBA827-2A8B-469A-A12E-73323139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ADD218-0D14-44A9-9165-372A7ED9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00DFD5-72C5-447A-B3DD-B9ED94A3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4229-5EB0-41C8-8C4D-CECDABFF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A8B335-2498-431E-9512-E791B1C8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55F047-4B61-4A59-8D22-F27BC9A3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5726A9-FDA7-4F4E-B3C2-20751380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0E41-9D61-4B00-AA93-9626BA5E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999E-0AB6-4C8D-A0D8-E12B9C6D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113F-9243-4FC4-8780-6D6426009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Charge It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C6CD-46E3-4EE8-BF2D-0C2244A5E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47B1-E2F6-488B-AB28-FF8819BB8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u Crédito y U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CFCF-74A0-46CB-A773-46280A5C29A8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1187-C9E4-43F4-81F5-9606A52BC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logo.jpg"/>
          <p:cNvPicPr/>
          <p:nvPr/>
        </p:nvPicPr>
        <p:blipFill>
          <a:blip r:embed="rId3"/>
          <a:stretch/>
        </p:blipFill>
        <p:spPr>
          <a:xfrm>
            <a:off x="6477120" y="614376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9"/>
          <p:cNvSpPr/>
          <p:nvPr/>
        </p:nvSpPr>
        <p:spPr>
          <a:xfrm>
            <a:off x="6792840" y="60958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Su Crédito y U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0"/>
          <p:cNvSpPr/>
          <p:nvPr/>
        </p:nvSpPr>
        <p:spPr>
          <a:xfrm>
            <a:off x="8534520" y="60958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7F88-D875-4158-828D-DAE5CBF6D95F}" type="slidenum">
              <a:rPr b="0" lang="en-US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D734-2F57-46EE-AB52-89ABB3382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To Your Credit title slide with FDIC Money Smart logo and module logo including credit reports and loan applica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5"/>
          <p:cNvSpPr/>
          <p:nvPr/>
        </p:nvSpPr>
        <p:spPr>
          <a:xfrm>
            <a:off x="76320" y="838080"/>
            <a:ext cx="46479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c1961c"/>
                </a:solidFill>
                <a:latin typeface="Helvetica Neue"/>
              </a:rPr>
              <a:t>Su Cr</a:t>
            </a:r>
            <a:r>
              <a:rPr b="1" lang="es-ES" sz="7600" spc="-1" strike="noStrike">
                <a:solidFill>
                  <a:srgbClr val="c1961c"/>
                </a:solidFill>
                <a:latin typeface="Helvetica Neue"/>
              </a:rPr>
              <a:t>édi</a:t>
            </a:r>
            <a:r>
              <a:rPr b="1" lang="en-US" sz="7600" spc="-1" strike="noStrike">
                <a:solidFill>
                  <a:srgbClr val="c1961c"/>
                </a:solidFill>
                <a:latin typeface="Helvetica Neue"/>
              </a:rPr>
              <a:t>to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457200" y="3124080"/>
            <a:ext cx="4267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132f5a"/>
                </a:solidFill>
                <a:latin typeface="Helvetica Neue"/>
              </a:rPr>
              <a:t>y Usted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1961c"/>
                </a:solidFill>
                <a:latin typeface="Helvetica Neue"/>
              </a:rPr>
              <a:t>¿Qué es un informe creditici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 informa a los prestamistas d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Quién es u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uántas deudas t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Si ha realizado sus pagos a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Si hay información negativa sobre usted en los registros púb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gencias de informes creditici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Group 4" descr=""/>
          <p:cNvPicPr/>
          <p:nvPr/>
        </p:nvPicPr>
        <p:blipFill>
          <a:blip r:embed="rId1"/>
          <a:stretch/>
        </p:blipFill>
        <p:spPr>
          <a:xfrm>
            <a:off x="2230560" y="2219400"/>
            <a:ext cx="3755880" cy="1365120"/>
          </a:xfrm>
          <a:prstGeom prst="rect">
            <a:avLst/>
          </a:prstGeom>
          <a:ln w="0">
            <a:noFill/>
          </a:ln>
        </p:spPr>
      </p:pic>
      <p:pic>
        <p:nvPicPr>
          <p:cNvPr id="292" name="Group 13" descr=""/>
          <p:cNvPicPr/>
          <p:nvPr/>
        </p:nvPicPr>
        <p:blipFill>
          <a:blip r:embed="rId2"/>
          <a:stretch/>
        </p:blipFill>
        <p:spPr>
          <a:xfrm>
            <a:off x="622440" y="1042920"/>
            <a:ext cx="3760560" cy="1359000"/>
          </a:xfrm>
          <a:prstGeom prst="rect">
            <a:avLst/>
          </a:prstGeom>
          <a:ln w="0">
            <a:noFill/>
          </a:ln>
        </p:spPr>
      </p:pic>
      <p:pic>
        <p:nvPicPr>
          <p:cNvPr id="293" name="Group 16" descr=""/>
          <p:cNvPicPr/>
          <p:nvPr/>
        </p:nvPicPr>
        <p:blipFill>
          <a:blip r:embed="rId3"/>
          <a:stretch/>
        </p:blipFill>
        <p:spPr>
          <a:xfrm>
            <a:off x="3822840" y="3365640"/>
            <a:ext cx="376056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formación del Inform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formación person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istorial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formación del registro públic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5" descr="Experian credit report"/>
          <p:cNvPicPr/>
          <p:nvPr/>
        </p:nvPicPr>
        <p:blipFill>
          <a:blip r:embed="rId1"/>
          <a:stretch/>
        </p:blipFill>
        <p:spPr>
          <a:xfrm>
            <a:off x="6172200" y="1676520"/>
            <a:ext cx="2019240" cy="1726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formación del registro públic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a información podría incluir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ent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tenciones fiscales no pag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uentas a cobr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ancarr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7" descr="Fingers on keyboard"/>
          <p:cNvPicPr/>
          <p:nvPr/>
        </p:nvPicPr>
        <p:blipFill>
          <a:blip r:embed="rId1"/>
          <a:srcRect l="10754" t="0" r="7524" b="0"/>
          <a:stretch/>
        </p:blipFill>
        <p:spPr>
          <a:xfrm>
            <a:off x="6472080" y="1523880"/>
            <a:ext cx="2367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ancarrota pers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pítu?lo 13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a persona endeudada retiene todos sus bienes y propiedad y paga a plazos sus deu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pítulo 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a persona endeudada debe ceder cierta propiedad al acre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El impacto de la bancarro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¡Debería usarlo como último recurso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a bancarrota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ermanece en su informe crediticio entre 7 y 10 añ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ce más difícil obtener un crédito en el fut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5" descr="One hundred dollar bills in background and troubled man in forefront"/>
          <p:cNvPicPr/>
          <p:nvPr/>
        </p:nvPicPr>
        <p:blipFill>
          <a:blip r:embed="rId1"/>
          <a:stretch/>
        </p:blipFill>
        <p:spPr>
          <a:xfrm>
            <a:off x="3352680" y="4292640"/>
            <a:ext cx="2248200" cy="149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¿Qué información no aparece en los informes crediticio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6840" y="12193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aldos de cuentas corrientes o de ahorr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Ingres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istorial médic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Compras realizadas con dinero o un chequ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Información sobre cuentas empresaria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aza, sexo, religión o país ?de orige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istorial de conducció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Usos del inform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os informes crediticios se utiliza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ra obtener préstamos u otros créd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ara conseguir ciertos tipos de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ara una vivienda (solicitudes para un alquiler o una hipote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ra conseguir un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7086600" y="533520"/>
            <a:ext cx="16002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Motivos por los cuales se puede denegar una solicitud de préstam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6840" y="987480"/>
            <a:ext cx="51814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 tiene historial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iene problemas crediticios o un historial crediticio negativ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17" descr="Woman working on paying her bills"/>
          <p:cNvPicPr/>
          <p:nvPr/>
        </p:nvPicPr>
        <p:blipFill>
          <a:blip r:embed="rId1"/>
          <a:stretch/>
        </p:blipFill>
        <p:spPr>
          <a:xfrm>
            <a:off x="5943600" y="2057400"/>
            <a:ext cx="2286000" cy="2300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untaj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Un número que ayuda a los prestamistas a determinar su riesgo credit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s tipo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untaje FICO (Fair Isaac Corporation Sc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antage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10" descr="Circle graphic containing a document icon"/>
          <p:cNvPicPr/>
          <p:nvPr/>
        </p:nvPicPr>
        <p:blipFill>
          <a:blip r:embed="rId1"/>
          <a:stretch/>
        </p:blipFill>
        <p:spPr>
          <a:xfrm>
            <a:off x="6705720" y="3124080"/>
            <a:ext cx="19047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ienv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62520" y="167652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gen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rmas básic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sentacion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untaje FIC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09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l método principal que se utiliza para establecer un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Puntaje de 300 a 8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320" indent="-309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puntaje está basado e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Historial de pagos del pasado: 3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Deudas pendientes: 3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Cuánto tiempo ha tenido crédito: 1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Nuevas solicitudes de crédito: 1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Tipos de crédito: 1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antage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088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istema de puntaje crediticio más nuev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untaje de 501 a 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mbién agrupa puntajes por categorías de letra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 = 901-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 = 801-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 = 701-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 = 601-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 = 501-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untaje crediticio bueno y ma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Cuanto más alto sea su puntaje crediticio, más probable será qu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Reciba una tasa de interés mej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gue menos por tomar dinero pr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se su informe crediticio regularmente para garantizar que su información es correcta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4" descr="Figure standing before a chart with the data arrow rising"/>
          <p:cNvPicPr/>
          <p:nvPr/>
        </p:nvPicPr>
        <p:blipFill>
          <a:blip r:embed="rId1"/>
          <a:stretch/>
        </p:blipFill>
        <p:spPr>
          <a:xfrm>
            <a:off x="7203960" y="1905120"/>
            <a:ext cx="17877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sult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voluntari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involuntari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excesiv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cuando está comparando tas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11" descr="Symbolism of technology with moving documents and the word &quot;download&quot;"/>
          <p:cNvPicPr/>
          <p:nvPr/>
        </p:nvPicPr>
        <p:blipFill>
          <a:blip r:embed="rId1"/>
          <a:stretch/>
        </p:blipFill>
        <p:spPr>
          <a:xfrm>
            <a:off x="5867280" y="1600200"/>
            <a:ext cx="2503440" cy="1676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Otros factores que influencian a los prestamist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987480"/>
            <a:ext cx="830592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otros factores podrían influenciar la decisión de un prestamista para otorgar un préstamo además de su informe y su puntaje creditici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Ingre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Tiempo que ha estado en su resid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Empl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" descr="Earned income credit (EIC) table"/>
          <p:cNvPicPr/>
          <p:nvPr/>
        </p:nvPicPr>
        <p:blipFill>
          <a:blip r:embed="rId1"/>
          <a:stretch/>
        </p:blipFill>
        <p:spPr>
          <a:xfrm>
            <a:off x="1676520" y="3687840"/>
            <a:ext cx="2246040" cy="1493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dad 1: ¿Quién representa el riesgo crediticio más alt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99072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56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7080" indent="-3056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1 en la Guía para los Participantes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7080" indent="-3056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a cada situación plante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termine si cada persona es un riesgo crediticio o 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080" indent="-305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533160" y="156996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 su derecho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lame al 1-888-5-OPTOUT (567-868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isite 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lame a los números que puede encontrar en los avisos de privacidad de su tarjeta de créd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086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ptar por no compartir información pers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5" descr="Man talking on cell phone and looking down at a piece of paper in his hands"/>
          <p:cNvPicPr/>
          <p:nvPr/>
        </p:nvPicPr>
        <p:blipFill>
          <a:blip r:embed="rId1"/>
          <a:stretch/>
        </p:blipFill>
        <p:spPr>
          <a:xfrm>
            <a:off x="7086600" y="533520"/>
            <a:ext cx="1447920" cy="2168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edir su puntaj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28600" y="1063800"/>
            <a:ext cx="87631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19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uede recibir una copia de su puntaje d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gencias de informes credit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Compañías que quieran venderle su puntaje crediticio como parte de un paquete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19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32f5a"/>
                </a:solidFill>
                <a:latin typeface="Helvetica Neue"/>
              </a:rPr>
              <a:t>Reciba un informe crediticio gratuit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Una vez cada 12 me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uando solicita un préstamo de consumidor garantizado por su vivienda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 algn="ctr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Visite 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</a:rPr>
              <a:t>www.annualcreditreport.co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lame al 877-322-822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criba a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nnual Credit Report Request Servi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. O. Box 10528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tlanta, GA 30348-528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forme Crediticio Anual Gratu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dad 2: Informe crediticio de Marí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alice la Actividad 2 en la Guía para los Participante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Responda a las preguntas planteada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tiv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2654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finir el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icar por qué el crédito es important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Describir el propósito de un informe crediticio y cómo se utiliz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licitar una copia de su informe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er y analizar su informe crediticio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iferenciar entre el buen crédito y el mal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4" descr="Arrow in target bulls eye"/>
          <p:cNvPicPr/>
          <p:nvPr/>
        </p:nvPicPr>
        <p:blipFill>
          <a:blip r:embed="rId1"/>
          <a:stretch/>
        </p:blipFill>
        <p:spPr>
          <a:xfrm>
            <a:off x="7924680" y="247680"/>
            <a:ext cx="1219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Ejemplo de un inform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51920" y="114300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Información personal/del consumid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Declaración personal/del consumidor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Resumen de la cuenta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Consulta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Información del registro públic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4" descr="Sample credit report"/>
          <p:cNvPicPr/>
          <p:nvPr/>
        </p:nvPicPr>
        <p:blipFill>
          <a:blip r:embed="rId1"/>
          <a:stretch/>
        </p:blipFill>
        <p:spPr>
          <a:xfrm>
            <a:off x="3581280" y="990720"/>
            <a:ext cx="5172120" cy="533376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7"/>
          <p:cNvSpPr/>
          <p:nvPr/>
        </p:nvSpPr>
        <p:spPr>
          <a:xfrm>
            <a:off x="3645000" y="1066680"/>
            <a:ext cx="5041800" cy="99072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3645000" y="2057400"/>
            <a:ext cx="5041800" cy="53352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3643200" y="2576520"/>
            <a:ext cx="5043600" cy="306216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3645000" y="5626080"/>
            <a:ext cx="5041800" cy="62244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dad 3: John Q. Consumido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3 en la Guía para los Participante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Utilice el ejemplo del informe credit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ponda a las preguntas plante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uscar erro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 su responsabilidad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onerse en contacto con la agencia de informes creditic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cribir una carta para disputar el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as agencias de informes crediticios deben realizar una investigación en el plazo de 30 días después de recibir su carta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6" descr="Circle graphic with an envelope in the center"/>
          <p:cNvPicPr/>
          <p:nvPr/>
        </p:nvPicPr>
        <p:blipFill>
          <a:blip r:embed="rId1"/>
          <a:stretch/>
        </p:blipFill>
        <p:spPr>
          <a:xfrm>
            <a:off x="7848720" y="533520"/>
            <a:ext cx="114300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8390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c1961c"/>
                </a:solidFill>
                <a:latin typeface="Helvetica Neue"/>
              </a:rPr>
              <a:t>Minimice su riesgo de robo de identidad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04920" y="106668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ja su información personal (SSN, número PIN, contraseña, tarjetas de crédito/débito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roteja la correspondencia que recibe y enví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nscríbase al depósito direc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Mantenga su basura financiera "limpia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Esté atento a sus resúmenes bancarios y a las facturas de sus tarjetas de crédi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4" descr="Down arrow next to a smiling figure pointing down"/>
          <p:cNvPicPr/>
          <p:nvPr/>
        </p:nvPicPr>
        <p:blipFill>
          <a:blip r:embed="rId1"/>
          <a:stretch/>
        </p:blipFill>
        <p:spPr>
          <a:xfrm>
            <a:off x="7391520" y="3124080"/>
            <a:ext cx="13716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c1961c"/>
                </a:solidFill>
                <a:latin typeface="Helvetica Neue"/>
              </a:rPr>
              <a:t>Minimice su riesgo de robo de identidad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2952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Impida el robo de identidad en Interne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vise su informe crediticio todos los años y denuncie cualquier actividad fraudulent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ursos de la Comisión Federal de Comercio (FTC)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</a:rPr>
              <a:t>www.ftc.gov/idthef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1-877-IDTHEFT (438-43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Down arrow next to a smiling figure pointing down"/>
          <p:cNvPicPr/>
          <p:nvPr/>
        </p:nvPicPr>
        <p:blipFill>
          <a:blip r:embed="rId1"/>
          <a:stretch/>
        </p:blipFill>
        <p:spPr>
          <a:xfrm>
            <a:off x="6858000" y="4343400"/>
            <a:ext cx="13716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Víctimas del robo de ident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52280" y="9140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ome medidas inmediatament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e una denuncia ante la polic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óngase en contacto con sus acree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aga un seguimiento por escri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la Declaración de Robo de Identidad en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tc.gov/idthe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e una denuncia ante la F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ida un comprobante de que las cuentas disputadas han sido cerradas y que las deudas fraudulentas se han liquid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5" descr="Police badge and ID"/>
          <p:cNvPicPr/>
          <p:nvPr/>
        </p:nvPicPr>
        <p:blipFill>
          <a:blip r:embed="rId2"/>
          <a:stretch/>
        </p:blipFill>
        <p:spPr>
          <a:xfrm>
            <a:off x="7635960" y="1219320"/>
            <a:ext cx="12794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Cell phone with grid and circles representing communication and alerts"/>
          <p:cNvPicPr/>
          <p:nvPr/>
        </p:nvPicPr>
        <p:blipFill>
          <a:blip r:embed="rId1"/>
          <a:stretch/>
        </p:blipFill>
        <p:spPr>
          <a:xfrm>
            <a:off x="7683480" y="237960"/>
            <a:ext cx="1469880" cy="10573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Víctimas del robo de ident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5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onga una alerta contra fraudes en su archivo creditici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Alerta de fraude inicial - 90 dí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Alerta de fraude extendida - 7 añ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7080" indent="-305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onga un bloqueo de seguridad en su archivo creditici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Limita el acceso a su informe crediti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Puede retrasar, interferir con, o prohibir la aprobación a tiempo de cualquier solicitud o petición para un crédi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struir su historial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licite un préstamo bancario pequeñ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licite un crédito en un establecimiento loc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re algo a plazos y pague una gran cantidad de entrada, y negocie los pagos a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ida a un amigo o familiar que sea su aval para un préstam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Picture 4" descr="Figure running up stairs"/>
          <p:cNvPicPr/>
          <p:nvPr/>
        </p:nvPicPr>
        <p:blipFill>
          <a:blip r:embed="rId1"/>
          <a:stretch/>
        </p:blipFill>
        <p:spPr>
          <a:xfrm>
            <a:off x="8001000" y="609480"/>
            <a:ext cx="8380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struir su historial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ague sus facturas a tiemp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ida a los prestamistas que revisen sus facturas de servicios públicos y otras para otorgarle un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Mantenga sus niveles de deuda baj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Deposite dinero regularmente en una cuenta de ahorr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4" descr="Figure running up stairs"/>
          <p:cNvPicPr/>
          <p:nvPr/>
        </p:nvPicPr>
        <p:blipFill>
          <a:blip r:embed="rId1"/>
          <a:stretch/>
        </p:blipFill>
        <p:spPr>
          <a:xfrm>
            <a:off x="8001000" y="609480"/>
            <a:ext cx="8380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ómo reparar su propio créd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9144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Obtenga una copia de su informe creditic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óngase en contacto con la agencia de informes crediticios y los acreedores para documentar cualquier err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sidere optar por no recibir ofertas no solicitadas de crédito para evitar contraer más deud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Picture 10" descr="Man using a laptop"/>
          <p:cNvPicPr/>
          <p:nvPr/>
        </p:nvPicPr>
        <p:blipFill>
          <a:blip r:embed="rId1"/>
          <a:stretch/>
        </p:blipFill>
        <p:spPr>
          <a:xfrm>
            <a:off x="6858000" y="1676520"/>
            <a:ext cx="156996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tiv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Describir las implicaciones de tener un buen o un mal puntaje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Identificar maneras de crear y reparar su historial crediticio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cómo corregir errores en su informe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cómo protegerse del robo de identid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Arrow in target bulls eye"/>
          <p:cNvPicPr/>
          <p:nvPr/>
        </p:nvPicPr>
        <p:blipFill>
          <a:blip r:embed="rId1"/>
          <a:stretch/>
        </p:blipFill>
        <p:spPr>
          <a:xfrm>
            <a:off x="7924680" y="247680"/>
            <a:ext cx="1219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Agencias de asesoría creditici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able con varias compañías antes de firmar un contra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Asegúrese de que son compañías reconocid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aga preguntas sobre servicios, costos y un plan de amortizació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Picture 4" descr="Woman handing completed paperwork back to a counselor"/>
          <p:cNvPicPr/>
          <p:nvPr/>
        </p:nvPicPr>
        <p:blipFill>
          <a:blip r:embed="rId1"/>
          <a:stretch/>
        </p:blipFill>
        <p:spPr>
          <a:xfrm>
            <a:off x="2968560" y="4565520"/>
            <a:ext cx="267660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imos en la reparación de crédit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28240" y="1063800"/>
            <a:ext cx="89154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Nadie puede eliminar información correcta de su informe creditici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uede llevar años reparar un mal crédit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Nadie puede crearle una identidad nueva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as compañías legítimas proporcionan un servicio antes de pedirle que pagu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uede pedir usted mismo su informe creditici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preguntas adicionales tiene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han aprendid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Cómo evaluarían el curso de capacitació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ó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n aprendido acerca d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ómo leer un informe credit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ómo solicitar un informe credit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Construir y reparar su crédit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rotegerse del robo de identidad y de timos en la reparación de créd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los informes crediticio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¿Qué es el crédito?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33520" y="11430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respuesta le daría un profesional financiero para definir 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rédit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 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Dinero que se le entrega que no tiene que dev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inero que toma prestado para pagar cosas pero que también debe dev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Reconocimiento por un trabajo bien h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os t?ítulos que aparecen al final de una pelíc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Definir el créd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El crédito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a habilidad de tomar dinero pr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gunas veces se llama présta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promesa que hace de devolver el dinero que toma prestado más inter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5" descr="Credit card and dollar symbol"/>
          <p:cNvPicPr/>
          <p:nvPr/>
        </p:nvPicPr>
        <p:blipFill>
          <a:blip r:embed="rId1"/>
          <a:stretch/>
        </p:blipFill>
        <p:spPr>
          <a:xfrm>
            <a:off x="6934320" y="2286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a importancia del créd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52280" y="12189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Por qué creen que es importante el crédit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s útil en situaciones de emerg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 conveniente cuando no tiene dinero en efe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 permite pagar compras grandes a lo largo de un periodo de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 puede ayudar a encontrar un trabajo, una casa o un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1961c"/>
                </a:solidFill>
                <a:latin typeface="Helvetica Neue"/>
              </a:rPr>
              <a:t>Caso crediticio: los escritorios de Marvi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2193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rvin construye y vende mesas de escritorio. Quiere tomar $1,000 prestados para una sierra de banda nueva y una lijadora el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éctr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ca. Ha pedido un préstamo al banco y ofrece en garantía sus nuevas herramientas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 Marvin no devuelve o no puede devolver el préstamo, ¿qué hará el prestamista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11" descr="Man sanding wood"/>
          <p:cNvPicPr/>
          <p:nvPr/>
        </p:nvPicPr>
        <p:blipFill>
          <a:blip r:embed="rId1"/>
          <a:stretch/>
        </p:blipFill>
        <p:spPr>
          <a:xfrm>
            <a:off x="457200" y="5029200"/>
            <a:ext cx="1886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/>
  <dc:description/>
  <dc:language>en-US</dc:language>
  <cp:lastModifiedBy> </cp:lastModifiedBy>
  <dcterms:modified xsi:type="dcterms:W3CDTF">2011-02-11T21:59:53Z</dcterms:modified>
  <cp:revision>519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5F4F99E60CAF94ABC78279498A0B61D</vt:lpwstr>
  </property>
</Properties>
</file>